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F107-88FE-4781-85B5-7680590E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365D7-5AC5-49BE-86B3-0F3F362B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65C39-03FC-4CAA-AA33-E934A5AD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D8E77-3F95-4025-A64A-E3800EE5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A228-CD7D-4580-AAD4-3ABD965D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A356-04EE-4B11-81F7-45ED811A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D358-EBD5-44BA-B938-2C5C4235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C45A-7E91-45D6-BA52-070A4123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7DBE-F431-4811-B14C-4E3ED8B8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00B9-EC5C-41B5-A027-6783084F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AC0A-1593-4D5C-9FD0-7F8E5D14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B53B-9300-4FE8-ADD1-97E1EA83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8524-27C6-4408-81DE-EB4FE939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E462-6DB8-4916-B490-35F0AB99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9D6C-DA32-4829-AD83-DBB35648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5CC2-B762-4B93-87F9-781B3506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3E81-399A-4019-8468-24F3681F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EBD4-1003-4E54-9607-A85F6498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426F-58C4-4627-907B-3B1727C5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58B50-B8DA-420E-A489-054273F7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753B-C90F-405D-9710-B5812976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3D337-DB9A-4D00-96E0-B741D312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551C-0BC5-4113-AC31-8B4E3F2C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8195-C4CD-453C-87EE-788B0158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529B-938E-48BC-94A8-7CCCE40A74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8B02-4DB0-4F94-B6BD-0299234EC8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ffin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reak the Affine cipher all that is necessary is to find the substitution for two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say plaintext “e” is represented in the ciphertext by “c” and plaintext “t” is represented in the ciphertext by “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wo substitutions define to affine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9720" y="4114800"/>
            <a:ext cx="80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= a*4 + b mod 26 (since e – character 4 is replaced by c – character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 = a*19 + b mod 26 (since t – character 19 is replaced by f – character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3840" y="5105520"/>
            <a:ext cx="71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the two equations for a and b results in the affine key (21,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affine equ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c = 21*p + 22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42C3-0575-4B08-AA29-330A9F5EC6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solve the equations provided you find at least two correct sub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6705720" cy="334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581280" y="2971800"/>
            <a:ext cx="1295640" cy="685800"/>
          </a:xfrm>
          <a:prstGeom prst="wedgeRoundRectCallout">
            <a:avLst>
              <a:gd name="adj1" fmla="val -45953"/>
              <a:gd name="adj2" fmla="val 6990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514600"/>
            <a:ext cx="1295640" cy="380880"/>
          </a:xfrm>
          <a:prstGeom prst="wedgeRoundRectCallout">
            <a:avLst>
              <a:gd name="adj1" fmla="val -45953"/>
              <a:gd name="adj2" fmla="val 16583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on 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276720"/>
            <a:ext cx="1905120" cy="1143000"/>
          </a:xfrm>
          <a:prstGeom prst="wedgeRoundRectCallout">
            <a:avLst>
              <a:gd name="adj1" fmla="val -47250"/>
              <a:gd name="adj2" fmla="val 8861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is appears to be plaintext then you were cor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wise try another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5228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B08B3-CCE2-44C4-B8D9-F0FF5BA83C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3T00:30:51Z</dcterms:modified>
  <cp:revision>31</cp:revision>
  <dc:subject/>
  <dc:title>CAP Cryptographic Analysis Program</dc:title>
</cp:coreProperties>
</file>